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EB6-E1CB-4B80-80E3-BDDC5B53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46A-A8DE-4EDB-AA3E-804B9BD1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D76-B222-49B2-B4B7-276CF0F9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616-0F91-483B-9044-B71E4278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AB3-D1AF-45B9-9C3F-B5D8BABD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176-2C8F-43D5-978B-D60727D5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189-DAF8-45C7-AA63-0A332E73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A50-A970-4DB6-AE16-D5927F44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36F-74C6-476A-AA7F-962407CA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74F-C73E-4BA6-BEBF-648B03E5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C9D-0749-4CE2-8BB4-050CEA84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E6A-D797-4426-95F9-5C6D637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FC28-A104-45B9-9D6B-1540A5935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20T05:19:41Z</dcterms:created>
  <dc:creator>Glavspec</dc:creator>
  <dc:description/>
  <dc:language>en-US</dc:language>
  <cp:lastModifiedBy>Zampred</cp:lastModifiedBy>
  <dcterms:modified xsi:type="dcterms:W3CDTF">2022-09-20T13:26:04Z</dcterms:modified>
  <cp:revision>2</cp:revision>
  <dc:subject/>
  <dc:title>Слайд 1</dc:title>
</cp:coreProperties>
</file>